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422552"/>
        <c:axId val="98075222"/>
      </c:barChart>
      <c:catAx>
        <c:axId val="314225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75222"/>
        <c:crosses val="autoZero"/>
        <c:auto val="1"/>
        <c:lblAlgn val="ctr"/>
        <c:lblOffset val="100"/>
        <c:noMultiLvlLbl val="0"/>
      </c:catAx>
      <c:valAx>
        <c:axId val="98075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225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DCFA-9EC6-4935-AEC5-CED4E4CD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A152-B051-43D9-BA28-E60FFE9C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2F2-48D2-4B46-9458-3095C500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2780-E802-4AE9-B090-718AA30C2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3DD-91D1-4B44-88F4-EDEE7753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B89-2C39-4F6D-A953-18FB9663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81C-B746-46EA-997D-CDD07F61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3A6A-EAB3-4830-8F57-B8DD378C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AD0-E911-4247-A83B-CC58C60D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CC0-5640-4212-AFDF-7E439CF7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FC6C-A29B-4C76-961F-893FC33B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AF1F-9BC6-4177-8713-C8DC25D9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9D51BA-A45D-4D9C-B693-B3BD462F3E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