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22141"/>
        <c:axId val="69214780"/>
      </c:barChart>
      <c:catAx>
        <c:axId val="85422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4780"/>
        <c:crosses val="autoZero"/>
        <c:auto val="1"/>
        <c:lblAlgn val="ctr"/>
        <c:lblOffset val="100"/>
        <c:noMultiLvlLbl val="0"/>
      </c:catAx>
      <c:valAx>
        <c:axId val="69214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22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181-F85A-455C-9505-15ADA942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AFA-6F6E-4DA6-9CE1-4484E104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9D03-AD78-4BC4-AC95-CD9B8721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3C1-D594-4BF5-8685-AEA8580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BFD-0F06-4D76-83F4-E147BDD4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435-9E66-4A1B-8718-FCA29316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D61-E7AC-4E24-8111-10922346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5C6-5DDF-4697-93D6-9718045A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E44-8B1B-4131-B450-A8CE8E6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CB86-6DF6-43B1-80F6-FEC7BC46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A473-E7CE-48A5-9653-7C2FC03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C9-3A1D-46EA-AC29-A6DFE07B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6E5AF-F0D4-4C2E-937B-E36E5BC369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