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84066"/>
        <c:axId val="72832220"/>
      </c:barChart>
      <c:catAx>
        <c:axId val="58184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32220"/>
        <c:crosses val="autoZero"/>
        <c:auto val="1"/>
        <c:lblAlgn val="ctr"/>
        <c:lblOffset val="100"/>
        <c:noMultiLvlLbl val="0"/>
      </c:catAx>
      <c:valAx>
        <c:axId val="728322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84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AB9-7908-43EF-ACE6-EE2E614D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75E-680C-4E82-B4A6-62B26921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A619-FD0E-4972-B630-EED8FA942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022C-58C8-42D2-9031-71941FBA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34E-BE58-4433-BF43-8C173A5E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64D-E717-45AA-A17C-8FA3BE51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6F79-3871-449E-8006-506B012B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007A-5266-491A-B44B-45E03936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01D-4106-485A-900B-B6C450CC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3E4-884F-4961-973A-29B89D52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C6C-7D2B-49EA-A6CD-755DECB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52A-BD5D-4E28-B383-079A767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F6C2E-E6E1-4D9E-B4AA-05CA720DB2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