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20456"/>
        <c:axId val="66710844"/>
      </c:barChart>
      <c:catAx>
        <c:axId val="92220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10844"/>
        <c:crosses val="autoZero"/>
        <c:auto val="1"/>
        <c:lblAlgn val="ctr"/>
        <c:lblOffset val="100"/>
        <c:noMultiLvlLbl val="0"/>
      </c:catAx>
      <c:valAx>
        <c:axId val="66710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20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A88-5667-4539-92C8-D666682A5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500-D2D9-43D5-A314-474633AE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E24-33D1-4C9A-8C1B-823176A1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EE6-DCF7-41B3-9A2C-EA208A0F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806-A547-4BA5-864E-4304A3EC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9EF-ACBD-40B2-84BA-93F0FB4B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004-E98A-40CE-A6FF-B0239518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927-C63D-4CCE-B106-9C6F03FE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684-0807-41B7-84FC-520768C5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744-D19F-40AE-9741-CD4F343E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1D88-EBC2-47B1-82CB-375D6FEF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8E3-8E47-4ACD-9175-45B61717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C4A38-BFB7-4067-8C91-5A82C98344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