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33319"/>
        <c:axId val="54828851"/>
      </c:barChart>
      <c:catAx>
        <c:axId val="45433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28851"/>
        <c:crosses val="autoZero"/>
        <c:auto val="1"/>
        <c:lblAlgn val="ctr"/>
        <c:lblOffset val="100"/>
        <c:noMultiLvlLbl val="0"/>
      </c:catAx>
      <c:valAx>
        <c:axId val="54828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33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1AE-D0A9-4143-B5AA-994B3E09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977-DBB9-4FF4-8F2C-34509886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546-383B-42CD-AF2D-A69FCD78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D0A-123D-49C1-AF20-4A1E96E2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CB5-72D8-43C0-8EC4-45131332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B70-C6EA-4466-B4F1-F833ABE0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BFB-D6BF-46B0-B33C-00B04EC1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B58-3AFA-428A-9B9A-8D9EBF71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FA3-B7B1-4943-893C-80065B8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D36-B681-4510-927E-C02C8AC2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555-5B95-4A4E-836C-206EE53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62D-BD40-4DF2-A4D2-BE10EF93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B3C12-D016-4970-8997-90D8A1411B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