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90608"/>
        <c:axId val="90164063"/>
      </c:barChart>
      <c:catAx>
        <c:axId val="54790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64063"/>
        <c:crosses val="autoZero"/>
        <c:auto val="1"/>
        <c:lblAlgn val="ctr"/>
        <c:lblOffset val="100"/>
        <c:noMultiLvlLbl val="0"/>
      </c:catAx>
      <c:valAx>
        <c:axId val="90164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90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98A-FB86-4E26-9090-A98D440F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34E-BD14-4708-83EF-1A7BB0CA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0BE-28D7-4A42-B584-0C865B55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DBA-0A7F-4E83-8AE7-6851B176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C03-3D14-4ABC-8A95-4A03431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DED-E3D5-4584-81FA-4BF3D3E7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493-13C6-41B0-98B5-CF3DBE9D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9DB-6779-4338-9116-5B24407C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024-B397-4067-A931-EE10F517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1BD-0770-47EB-BF21-FE117FC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064-DDAA-46B4-A482-8F9CE9CF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2D6-97F3-471E-B82A-F42A6237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FC15D-5482-404A-B849-5006DED8D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