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95355"/>
        <c:axId val="32188687"/>
      </c:barChart>
      <c:catAx>
        <c:axId val="48595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88687"/>
        <c:crosses val="autoZero"/>
        <c:auto val="1"/>
        <c:lblAlgn val="ctr"/>
        <c:lblOffset val="100"/>
        <c:noMultiLvlLbl val="0"/>
      </c:catAx>
      <c:valAx>
        <c:axId val="321886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95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0E9-23E5-4E48-A37C-07918772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5960-DC11-4364-BE2D-CD7992E14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3CCF-DE05-41E8-A0CD-69CA317D0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FA9-80F4-43D7-8CF5-1CD3AB41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C4CE-FDE7-4503-AE13-F92D8215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498-E4CF-419E-AC30-E56CB662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520-F237-4ACC-B39C-7350707B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EA7-EF9B-4C87-834E-C7092E5B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559B-FA6D-4964-B55A-A92AD531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914F-0250-41C4-838E-66D65552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B9EF-2639-40D5-AE37-2CC66E29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E5A6-489C-4B0A-A731-6A09801C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2B619-E712-4378-A72D-532262A3B0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