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94614"/>
        <c:axId val="92108907"/>
      </c:barChart>
      <c:catAx>
        <c:axId val="57394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08907"/>
        <c:crosses val="autoZero"/>
        <c:auto val="1"/>
        <c:lblAlgn val="ctr"/>
        <c:lblOffset val="100"/>
        <c:noMultiLvlLbl val="0"/>
      </c:catAx>
      <c:valAx>
        <c:axId val="92108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94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CD6-1115-418F-B400-9F09A468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EBE-D174-45EF-B35D-FC2DF7AC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169-8D03-45B2-A7A5-8175924C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31E-C14B-4E82-A382-DFE6D217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57C-748E-4DD8-AFAF-578AFE8A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6AD-D33F-487D-B35C-AE0EA02C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002-AFB1-48EE-A09F-E0BF5C35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873-B423-4F19-8EA8-37B77B25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514-D4BC-42C3-969E-3B045C5A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F46-8C0B-41EA-BE10-EEB0AA12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D19-279C-4657-A512-1392D173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848-F304-4FA0-96AD-3FB89B54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F08FA-A3A6-4967-A93B-AB03011723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