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83707"/>
        <c:axId val="84996460"/>
      </c:barChart>
      <c:catAx>
        <c:axId val="964837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96460"/>
        <c:crosses val="autoZero"/>
        <c:auto val="1"/>
        <c:lblAlgn val="ctr"/>
        <c:lblOffset val="100"/>
        <c:noMultiLvlLbl val="0"/>
      </c:catAx>
      <c:valAx>
        <c:axId val="849964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837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08A6-05EF-42DC-8FB7-5414CE63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D1B2-0A76-4BD8-98DF-727B51C5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35F5-A036-4519-A1DF-5AB08F2B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E3FD-1AB7-4A24-B9D4-15A22EEC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A228-E296-4112-B3BC-054999F5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961C-8AFC-4347-B6D3-E77B113B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7709-0AD8-47D0-A5A1-002CA1E6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2C18-2E90-46F1-BF7B-5FE58ADB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3D21-284B-456B-AE02-2345D0E4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EE19-DF0A-4D4D-A308-E9E8BD99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43B8-E41B-4CA6-B45F-F66D1783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4038-3FAD-4548-B368-780A220A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87F24-484C-47DF-8CBF-9C0AA0ACBD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