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613980"/>
        <c:axId val="60040878"/>
      </c:barChart>
      <c:catAx>
        <c:axId val="92613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040878"/>
        <c:crosses val="autoZero"/>
        <c:auto val="1"/>
        <c:lblAlgn val="ctr"/>
        <c:lblOffset val="100"/>
        <c:noMultiLvlLbl val="0"/>
      </c:catAx>
      <c:valAx>
        <c:axId val="60040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13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9A6C-DB4E-4DC0-8164-7FC4AD559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738B-8D7B-485A-8162-F197F173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7BAD-CC0F-46B1-AFD6-9F9817140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FB0-2768-4910-A683-AD6AE2825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50B-63B1-47B7-8E8F-6A0A6625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FAD-2C3B-4D31-81F5-42A3B39E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FFA-AAEE-4726-BD68-B15FAB65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BB62-FFCE-43EC-95AB-4A5665B7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D90-34A2-4E7B-80CC-49218161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A008-9994-4901-9769-41D8B7AC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9037-CB81-4D05-A1F5-85E59086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9C6-7417-4BB1-8561-851283C8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589E4-4AA2-4FFB-8699-7FBA460137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