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40130"/>
        <c:axId val="89501627"/>
      </c:barChart>
      <c:catAx>
        <c:axId val="60340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01627"/>
        <c:crosses val="autoZero"/>
        <c:auto val="1"/>
        <c:lblAlgn val="ctr"/>
        <c:lblOffset val="100"/>
        <c:noMultiLvlLbl val="0"/>
      </c:catAx>
      <c:valAx>
        <c:axId val="895016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40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C5C-120E-45E8-87E7-9EC2F188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4B4-6B25-4DA1-AE72-712722CE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DB3-2DF3-405B-8882-A8C6C45B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854-9E81-494F-A407-59728733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789-C776-47CD-B1AB-80BFEF74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CCF-2645-4768-BAD9-BBCA8D05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FDC-2E28-4076-BA3D-BE5880F0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E48-6C27-405C-9606-E8894A8B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ADF-DCCD-4710-9328-7605C0C3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D83B-9D86-486F-80BC-92C82364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DDB-5AF9-478C-ADCE-D1055420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83C1-820E-4400-AD73-71AEC11E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08F21-6E4D-4C3F-950F-15DC9F1336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