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32797"/>
        <c:axId val="62189980"/>
      </c:barChart>
      <c:catAx>
        <c:axId val="73732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89980"/>
        <c:crosses val="autoZero"/>
        <c:auto val="1"/>
        <c:lblAlgn val="ctr"/>
        <c:lblOffset val="100"/>
        <c:noMultiLvlLbl val="0"/>
      </c:catAx>
      <c:valAx>
        <c:axId val="621899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32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681D-9758-4645-B1C6-3B12A127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6D1-EFEC-4104-98A6-049A6A2B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DE71-680A-4F37-9D20-3B56B6B6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0E0C-CB34-4B30-BBE0-A382C784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A8AA-3F8E-48E7-BF40-97F354ED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036B-E2B8-44A1-BC39-E867160C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3C5A-35A4-40FA-AC0E-68BD3673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F68-2A67-4019-9149-47DE4E68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CE85-99FC-46D7-BE1C-BB2713EC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6B7-6E7F-48F5-8335-8FC5B239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6C7-8798-43A1-ADA2-116DF58F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1AD-2C36-4DF4-AE12-4AD80401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1E809-E598-4649-8668-2B44198263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