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2874"/>
        <c:axId val="10124626"/>
      </c:barChart>
      <c:catAx>
        <c:axId val="8572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24626"/>
        <c:crosses val="autoZero"/>
        <c:auto val="1"/>
        <c:lblAlgn val="ctr"/>
        <c:lblOffset val="100"/>
        <c:noMultiLvlLbl val="0"/>
      </c:catAx>
      <c:valAx>
        <c:axId val="1012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6C4-097B-4343-90C6-242E00ED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46C-07CC-4657-923F-EDFEBE19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0AE-EA3C-4428-BFE5-1DF92C9B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412-9A72-4C7C-A4A6-C925C7C3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328-766E-4DE5-9E78-8607A59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511-86E6-460E-9CAD-4712A721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491-D5EC-4760-BE75-CB9E345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916-780F-4407-BD02-1F0C9336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831-CE9D-46F6-8B5B-4E45D3E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BC-48BF-4D8B-B477-D3C16F3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0BD-8341-46B4-956F-D704146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89F-41CD-4154-8863-6B09EB7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DA9BE-DC6A-4B7D-BB64-84A1185C5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