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08564"/>
        <c:axId val="73641121"/>
      </c:barChart>
      <c:catAx>
        <c:axId val="65508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41121"/>
        <c:crosses val="autoZero"/>
        <c:auto val="1"/>
        <c:lblAlgn val="ctr"/>
        <c:lblOffset val="100"/>
        <c:noMultiLvlLbl val="0"/>
      </c:catAx>
      <c:valAx>
        <c:axId val="73641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08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8DC-5398-426A-A7DA-6EBB0A11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029-84E8-4F1B-B5D9-09EC3D8B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4B6-4485-4D18-9169-960F5511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C9E-EF53-4A46-B85D-A130926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D3F-7819-46ED-86A6-6F862CEC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0A1-2864-4F80-86AC-7494873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AD1-CC41-42F2-B0F9-6F26D65F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B2B-82B1-4F6C-BD0B-C78B47F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3A6-1EE7-43F6-B8E7-FF9891B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598-8517-4881-AB2D-08B7D5C0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D95-33D9-42C0-A9BE-E72067B3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B90-04D0-40E6-810A-070F120F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670E-437F-4BE5-92F1-3EA11426D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