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02657"/>
        <c:axId val="36849648"/>
      </c:barChart>
      <c:catAx>
        <c:axId val="196026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49648"/>
        <c:crosses val="autoZero"/>
        <c:auto val="1"/>
        <c:lblAlgn val="ctr"/>
        <c:lblOffset val="100"/>
        <c:noMultiLvlLbl val="0"/>
      </c:catAx>
      <c:valAx>
        <c:axId val="368496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026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0E47-C9B4-4D1B-A740-1B4B7790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7D4A-75C4-4CFA-8509-5DE041FF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0848-A70F-4350-992F-62051403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B871-2CE0-4257-AC0E-2274A9FC3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FDC0-BF26-49C4-824D-00749537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8483-CFCD-423E-BA2E-DBF54524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DD38-00CE-43B4-A93E-6CFB74C1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CB13-0D54-4A93-A99A-8BD42CF9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6D18-6143-4F26-99E5-2FC47BE7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4A49-EC77-421F-B7EC-9C06C07D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3EB2-99D7-4BA4-BABA-AF2BC6AF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70CF-680E-439D-AADA-C14F2903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CC08B-E929-46A0-8DDC-4FBD4C5430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