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76186"/>
        <c:axId val="26075830"/>
      </c:barChart>
      <c:catAx>
        <c:axId val="10676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75830"/>
        <c:crosses val="autoZero"/>
        <c:auto val="1"/>
        <c:lblAlgn val="ctr"/>
        <c:lblOffset val="100"/>
        <c:noMultiLvlLbl val="0"/>
      </c:catAx>
      <c:valAx>
        <c:axId val="26075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76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A65-A623-49A1-9883-66A4BDAC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AC9-3C7F-44F6-9F6A-DEA7DF7F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F47-F676-4F69-8B11-3E27C271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F528-87D2-40FC-9453-5A075FEE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0D9-ADFE-49C9-934A-6A05D889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6A0-F0F1-4A6F-AF40-29D35B8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210-E9B7-4DCE-8F00-18F7B1F8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054-5062-4EEE-99E0-6EDCB19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D6C-C823-42D7-9FCB-8E8D6E6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43E-D836-493F-BEB3-EEF2D05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0F-E015-487F-B8C2-E3469D22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05F-CD07-4CA8-B6B4-08F4B95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756CC-A339-466A-8EAD-46F7C949FE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