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46046"/>
        <c:axId val="5268676"/>
      </c:barChart>
      <c:catAx>
        <c:axId val="21046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8676"/>
        <c:crosses val="autoZero"/>
        <c:auto val="1"/>
        <c:lblAlgn val="ctr"/>
        <c:lblOffset val="100"/>
        <c:noMultiLvlLbl val="0"/>
      </c:catAx>
      <c:valAx>
        <c:axId val="5268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46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51B-2A90-4EEB-B638-EF007919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C8A-62F2-4AE2-ABFE-0CA1BCD7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FA8-936A-45E5-B171-D596520E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29F-5CA4-4437-94A5-3AA8C265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241-2AB1-4DCC-AD6A-C93A784F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8CA-FA8B-4DB6-B703-57153370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97E-417A-43D2-BF98-99B70968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78C-BDE2-4537-83B9-B7F19F83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662-A833-4321-9782-F1E25652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3CA-E1FB-41C4-A0AB-E03766A1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DDE-166F-4BBF-A461-F5E728A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9CD-340B-4F57-9D4D-316DB9B1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D25C7-02DB-469E-B8A9-735BFCDDF4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