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34130"/>
        <c:axId val="56592977"/>
      </c:barChart>
      <c:catAx>
        <c:axId val="45934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2977"/>
        <c:crosses val="autoZero"/>
        <c:auto val="1"/>
        <c:lblAlgn val="ctr"/>
        <c:lblOffset val="100"/>
        <c:noMultiLvlLbl val="0"/>
      </c:catAx>
      <c:valAx>
        <c:axId val="56592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4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C71-9356-45FF-BC37-D16FBD1D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36A-6DBA-4E54-A1B8-18993FA5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B1E-FED4-4385-A118-984674C7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793-D75A-48DD-B66B-9481F4FE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313-17F8-42AB-82C2-A2F2D281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122-425C-46A0-9C39-53D2E806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93C-397D-4AD4-A383-F5CA9E9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E62-4630-4111-A631-6DAFFA1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897-1B1B-49FF-B69F-8576D974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60E-F6C4-4D0B-9B5B-1519C2AF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136-CAA4-4B0A-B781-41B414D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1FF-9373-4F95-BCF5-BD610A88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280E-9346-4E54-B041-5EB8A08D26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