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88884"/>
        <c:axId val="68817609"/>
      </c:barChart>
      <c:catAx>
        <c:axId val="25088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817609"/>
        <c:crosses val="autoZero"/>
        <c:auto val="1"/>
        <c:lblAlgn val="ctr"/>
        <c:lblOffset val="100"/>
        <c:noMultiLvlLbl val="0"/>
      </c:catAx>
      <c:valAx>
        <c:axId val="688176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88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754B-8041-436A-94E5-3D7391210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42F1-EA0E-4E9C-96F6-D4CDE568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9DDD-E454-408F-BAC4-305DC984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4FE-0513-487D-8328-64FC22EF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7ED7-390D-4E41-BC94-192BB898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C6A-4E6E-499A-B2E4-350569A31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952-56D8-4C1C-8CB2-2FC2F726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FCF2-32DD-4570-A481-3B33898A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71FE-8CEC-4D61-A72B-ADCE8481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106-9BEA-4F52-9E0F-0BCDE43B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88E-36F0-4453-B2F8-0B226AC5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F6A-07E9-41D3-8313-DF86898A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BC08C-D27D-45A4-8199-28DD9E0510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