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2003669"/>
        <c:axId val="66401312"/>
      </c:barChart>
      <c:catAx>
        <c:axId val="1200366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401312"/>
        <c:crosses val="autoZero"/>
        <c:auto val="1"/>
        <c:lblAlgn val="ctr"/>
        <c:lblOffset val="100"/>
        <c:noMultiLvlLbl val="0"/>
      </c:catAx>
      <c:valAx>
        <c:axId val="6640131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00366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F20BE-3543-4199-815F-E4E56D859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5AE26-C2F8-461D-B5FE-099F91CF7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CB69C-984E-465D-A87A-27C47E31F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619C7-25B3-41C0-AC23-687C7ED5E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5DE6C-088C-493F-9367-47AB0F718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05AE6-C0FA-480C-86E0-880DCE319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F22A7-50DD-463D-8670-7B389B261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20562-85AD-4740-B599-9C1704AC7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9F020-F3CD-487D-AA27-D748815FE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0C427-89D0-42C1-98EB-97D031F1E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5C0AB-B54D-4DAC-8943-9C2ABBCAA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5F412-F099-4CCE-BA96-02383D134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072EA1-8FA0-4451-8BF9-E4A85A0B6DA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