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37802"/>
        <c:axId val="373056"/>
      </c:barChart>
      <c:catAx>
        <c:axId val="95337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56"/>
        <c:crosses val="autoZero"/>
        <c:auto val="1"/>
        <c:lblAlgn val="ctr"/>
        <c:lblOffset val="100"/>
        <c:noMultiLvlLbl val="0"/>
      </c:catAx>
      <c:valAx>
        <c:axId val="373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37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52F-FB3E-41A0-A40F-E72B5F08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C7C-34CA-40ED-8732-8C903300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9C0-AAEB-4042-8231-177D14A9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080-BE29-4355-904E-2DDE2069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9CE-1321-43E2-B5CD-1EE31D0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FC3-D80D-4A18-8F3A-9EB973C3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EAC-82B2-41D2-B36C-A3956B6D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4A1-BD5E-47F3-8A70-ADBCED10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5B0-4B1B-412F-9FB3-93F32408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644-93D8-4296-8F3B-CAB2C4D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8A2-12B8-41AD-B7CC-C4AD1D5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2BE-A69D-4587-A1A8-308F1EC5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D58AB-1901-449C-929E-7F87D1770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