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0493202"/>
        <c:axId val="21455928"/>
      </c:barChart>
      <c:catAx>
        <c:axId val="504932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455928"/>
        <c:crosses val="autoZero"/>
        <c:auto val="1"/>
        <c:lblAlgn val="ctr"/>
        <c:lblOffset val="100"/>
        <c:noMultiLvlLbl val="0"/>
      </c:catAx>
      <c:valAx>
        <c:axId val="2145592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04932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146E4-BC6D-41DF-A51A-E4D2681A3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2C808-D9D2-4089-89E3-4B6EBA78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D2226-FFD6-4195-A17A-092B9EA206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86E78-C837-4A18-ABAD-F6D8215F71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2E66F-F912-463B-809F-9E1C0D7B5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77B7-68BF-4296-9A57-986E5C459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0E1F1-818A-4E9C-B515-BFAFCCB95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3BFF-698E-4C5E-86CC-A2A80F30FD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C6B7A-04D7-4561-9A9B-EDE8104C1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A3A81-0DC7-4AB0-B287-B2C505E8B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9AC7B-A646-480C-BB61-E2CB1462D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3F1D-6B1C-438A-9086-CE9DF6750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F803AC-6955-4253-891C-C3258C6428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