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57679"/>
        <c:axId val="64808764"/>
      </c:barChart>
      <c:catAx>
        <c:axId val="4475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8764"/>
        <c:crosses val="autoZero"/>
        <c:auto val="1"/>
        <c:lblAlgn val="ctr"/>
        <c:lblOffset val="100"/>
        <c:noMultiLvlLbl val="0"/>
      </c:catAx>
      <c:valAx>
        <c:axId val="64808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5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620-8371-4517-B436-B5D62A30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3D9-1DE6-4D07-8C32-5C527747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24A-FB44-4E12-A0C5-E5619279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8FE-F3EC-4ECF-B66D-42AF02D9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6D3-DB84-4B44-95AF-428B274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29D-5641-4E71-B8F8-39223560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D59-5431-4818-A1EB-807BAE8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727-7031-4E44-A7FE-0963EAD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350-6BC5-48FE-8F66-F5A3812A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F58-BE13-40C8-9F85-8FB1AC7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4F0-F23C-44A0-9710-7E1F9B7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FC2-2C9D-49A6-B51A-6F77C87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26420-FA94-4BB3-89FD-484A605B60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