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80121"/>
        <c:axId val="15994986"/>
      </c:barChart>
      <c:catAx>
        <c:axId val="26580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94986"/>
        <c:crosses val="autoZero"/>
        <c:auto val="1"/>
        <c:lblAlgn val="ctr"/>
        <c:lblOffset val="100"/>
        <c:noMultiLvlLbl val="0"/>
      </c:catAx>
      <c:valAx>
        <c:axId val="15994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80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161-471B-4B39-9A6D-4AA1838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370-50BA-478B-84A0-0B46651D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ECF-3574-4A4F-9D8D-CA52A944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B57-D6FB-445F-B8EB-1E9447AF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AFF-C72E-4223-A5CE-2DAFC4B9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E5C-D3A2-42F6-8D00-CD391AD2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BEA-0893-468B-A586-4E1729C3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37F-2568-422E-A24F-31877409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172-3492-48B9-8F73-E59130E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68C-8FB8-44EE-9E2E-739C9791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0AB-15E5-40B7-95E0-1A91CC9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CFE-53B9-43B7-9C7D-4E48B80B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68FEB-A7DE-4DDB-B9D2-B0DF36B80E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