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58483"/>
        <c:axId val="95052314"/>
      </c:barChart>
      <c:catAx>
        <c:axId val="22658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52314"/>
        <c:crosses val="autoZero"/>
        <c:auto val="1"/>
        <c:lblAlgn val="ctr"/>
        <c:lblOffset val="100"/>
        <c:noMultiLvlLbl val="0"/>
      </c:catAx>
      <c:valAx>
        <c:axId val="95052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58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EA4-4EE5-4614-ACC2-975FF9E1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7FD-38C1-4532-BDA3-7CEC341B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EC0-167E-43E2-AC8A-18879746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A9D-0435-42DC-8E79-3F81FFC2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281-36C3-46E8-B1A4-75C67028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C00-1DB9-4446-AF6F-535FD924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060-B6B8-4E33-B90E-8843D050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3E2-FDD6-4C4E-960E-C5A97CCC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44A-73BC-4DC2-BD86-73EDA621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B56-CAEC-4AB0-A67A-1AC3E43A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28F-571C-40D9-ADAB-6FF358C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F7E-B0CD-4613-9EA5-6EA0FF62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043C6-AD89-44BE-BB29-85C8652FAB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