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85493"/>
        <c:axId val="57462739"/>
      </c:barChart>
      <c:catAx>
        <c:axId val="52854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62739"/>
        <c:crosses val="autoZero"/>
        <c:auto val="1"/>
        <c:lblAlgn val="ctr"/>
        <c:lblOffset val="100"/>
        <c:noMultiLvlLbl val="0"/>
      </c:catAx>
      <c:valAx>
        <c:axId val="574627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54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81C7-6B75-40F6-A31B-711917A0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7ACA-83AA-4472-B704-A3EC719E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223F-1415-4D54-BF7B-AFD2F36E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D141-346A-413C-9684-31921A21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E033-D9EC-4DC6-9F29-33DC3F2B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539E-9A8A-463D-A2AC-0A7C777A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DEBB-FEB8-4E3F-AC32-BDD272E2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0B1-BBD1-4B28-B77A-FE7217CD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397-51F3-40C5-A36D-C6D72D25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FF0C-0043-47AA-B4D0-1DC42247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EF2B-EE86-46FE-88B9-0C2E2540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80F3-B7B6-4A3E-9501-F32889EE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722B1-D955-434E-B12B-63432E86C4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