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5C411CC-7D6F-43BC-947C-66DFEAB7494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B13C60B6-A81B-4059-BBEF-75B5F087C85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E8E2FCF1-ABE5-4993-9C57-75D8DFA44B0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BDB942D1-D829-4D23-830C-DD069ED08C1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F51B7087-C48B-47A8-8976-38EDA5EFC2E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AEC6AE-CDE9-42D2-B6F5-9C5DD4FDA90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F955FD8E-EE41-41EA-9B01-2BC14361823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F3181DDB-2A57-477C-A3D5-80FB92D13BF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89D54720-7C85-42FF-873D-B92E6C33EB3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C2C72CA-4A9F-41FA-9D9C-BABBF28D8B5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A9F02FE9-6624-4365-8584-3104B2C8C7F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9B1773E-4452-4533-BA27-7DAA445C37E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1D291C-1A65-4253-846A-7686DE60E76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5724E03-B95C-47E8-AF30-D88B6AE171B3}"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DC6FB9B-7AFF-4DBC-B415-6714C548F3D3}"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38849AF-D1F1-49AE-9636-30E8B5156B1E}"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8A00C7-545F-4961-BEE3-E42C30BF3102}"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434393-FA45-4F33-B5B4-49EDAC783149}"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23B6CF-8F82-469D-89A8-7CB22420AB4E}"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BC87D6B-6F2A-495A-88D2-E9C5B34B976B}"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DC6EC8-865C-40A1-B8FD-3B52E8BA822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9ED122-457F-4B72-A97A-8F0FA04FC5B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157406A-3DC2-4BC0-B490-E0699880948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6FC618-B024-4C90-96C9-9C776A2F9C9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01FCE12-FFD5-40CA-B0F3-B18E42F3875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51BEAF02-FF45-4E70-AC2B-F9E853BBACF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B4E74D2-41A8-4534-BEDA-202D24D26F0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5B36F2-5A55-4DFC-B5F3-CE49CD37965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3ACCE56-A2F6-4B1F-B598-6A8F1C92F49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8E8549F-5C71-46E3-BC63-95F752DE7CE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F30D92-6C76-4A50-B6A9-1F4A6C8D678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FF60E7-3B41-4B96-B102-96748B4156B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D1BE54-5598-423C-8B4D-C83BFC90381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4BDC14-2380-43CF-8CFF-6B4C35F5110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4E11BA-A4BC-42FC-B834-4439E8BD88A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EDF299E-6EB8-4B4C-B1E0-81D33D270DC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A6FAC58-DE11-44B1-B08F-A019E139B54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822FAD-A6A6-4F2D-A541-8CC2786DABE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EF7FAAA-833E-4122-9EEB-59A6C47E3E2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7E923A6-F606-4E60-AB66-A180330F41A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A6737C-C66C-43B2-AB74-ED2BD0D45D4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AE997D8-FF74-4AD9-9A05-1D9DA97CC8B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FBBD2E-6E20-4E19-B907-47E093B74C5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3CBD6BF-0F14-4A32-B471-D314E39A711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0FF8AA5-9631-4E0F-BE86-7CB97D03564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17B2258-3C16-4E87-BD39-3EBB91EFB76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A10600-07FA-469C-B0E9-283712D63181}"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DB1777D-E974-42BB-A555-ACD75FE49AE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35FABA6-0F18-4413-B205-4E4A1926727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D46840-B573-4E93-B378-3B6686A482A9}"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2838F9DD-83E9-42B7-B146-95CFBD97E587}"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6D94BC-2597-4CE6-890D-9BD054D093B3}"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AA45DC-594D-4640-B6F3-984FDB9D6A7B}"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698156-BA87-4EFE-86E5-4E31D349649C}"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A9F396-0553-4AD1-A3C4-8EAC7F01E9A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9A42176-945C-41CE-B279-B3381FE27E38}"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72BDBF-A88C-426F-8684-32867CCFEEC5}"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593A74-F8E2-4282-90D7-6D4B6A09A405}"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A5E27ED-6A96-41CC-B984-4B493442C1D2}"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EDDDA6-6F0B-4865-B859-410CD1762A0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830129F4-1664-4C4B-8A33-33B3DE06BDC8}"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BB8EDC-FB76-4FD6-BA3C-592878E60631}"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74970CE-872D-4871-BC0A-8A851D63937C}"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01E97A-916B-480C-915A-C01F78BE962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1E6234-A1C7-4A87-BF83-D059748DFFC1}"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BA154FB-B5F2-42A6-8C65-F03A645063CE}"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FE961A-D4C1-47B5-81A1-8913F9E9C3A9}"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7F3E71-A91F-49AA-B891-61181F923DBF}"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4CA40EC-4AFE-4445-B767-A10FCD5BA7AC}"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A3469F-CB0C-46E5-957F-E5922BF0F289}"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7D98D9-6846-40C3-B901-167FCE776B44}"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43C75FBD-8DE0-4CEB-98D2-E065AA374C35}"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AB2159A-D3A0-4FB4-BDAE-8822EABAE1A0}"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72590C-8F61-480F-9961-E6451E6DDD12}"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9B7A213-0B15-423E-A821-0DBE800BBD3F}"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0FF8EFE-5DCB-4F97-9210-8ABC71F30352}"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7E1E01E-83FE-4048-B158-AB8DEA1885F1}"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27B2FA-C243-405C-99AD-C96CE2F23BB6}"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75A7B6-EF34-44A7-B790-3030E30B8227}"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4E527E6-67F8-44B6-9EF6-39CD4858275A}"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571F6F4-FF16-49B1-B12C-7D2CEE416CAB}"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C8EE5B-AEEF-4599-9F4B-81031F298F1B}"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28701F-E0DE-418C-B30D-2FCD6BC16382}"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88EA14D-E026-4C32-9063-DA0513362349}"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8C1E5B-78C6-4981-8CFF-4263B2E56B64}"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E5F9838-402D-4161-A0D5-58CEE4ACAB3C}"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3EBB717-82DA-46A5-8AA7-85C3C7E1C77E}"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F4F1D3D-D7CF-4A6D-9CE3-A3B648F01E4F}"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3F39390-C6F1-4FEC-A44A-E7F962EC21B3}"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2FBC95-0FC9-46B9-9DA1-F328C91B6919}"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75233C9-A585-45E6-9CE8-D16AB8F06033}"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7C7470-E980-4759-9A8F-3697B3CE6A40}"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804E70-FCDE-489F-A1B6-5F96DB242563}"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8638BF-99F5-4A23-8C61-BF6FF57B005F}"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EB4D95-44A3-469D-B51F-6C709083A5E2}"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500DAB-C8B0-4B0E-9EBA-37B53C62E441}"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01A2F1-2606-4107-9C11-D2731C4ED381}"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01601D-7BB9-48CE-A8E0-F3C8B911E77C}"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E31E0D-FA27-476C-BB01-76C0BDE0A960}"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6B0757-8077-4102-8C6E-E521B845B818}"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AA9ECF2-73F9-4218-BA25-610DFE89CC2A}"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0F8000-8304-4CE7-89C5-E5286A919692}"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3471ED8-F105-4589-97C3-1F80D07A41AE}"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DAE65E-FE8A-4F51-8464-4869D60F081B}"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8386E77-D1C9-4048-A033-0CC38250D611}"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354CEB-0A95-45BD-B730-208920A7690B}"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BDC5D1-27AC-4EB5-9194-FB7CDB4EA6ED}"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E2AB8FA-8B28-42D4-8993-85EF4183987C}"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911FF3-2DBB-462F-A5D0-2DF061044FBF}"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EADD93-9A76-47E8-9A84-1FDDCE5E1E19}"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1585C8-7A57-427C-B83E-F033F80806BD}"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1E4D644-412F-4B8D-BBD6-681BA382E67A}"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BA197D-D965-4EDE-8833-736111EE9354}"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E3B2D0C-5588-49CE-8930-31C5380A91E4}"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8ECC561-60D8-4A41-9DA1-1958DC24975A}"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66D5DD-0586-4281-A6F5-F7B7B9C8FCE1}"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03D8C16-05B0-4B35-BBCD-C7F9D1099A9C}"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