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29532"/>
        <c:axId val="79142794"/>
      </c:barChart>
      <c:catAx>
        <c:axId val="94829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42794"/>
        <c:crosses val="autoZero"/>
        <c:auto val="1"/>
        <c:lblAlgn val="ctr"/>
        <c:lblOffset val="100"/>
        <c:noMultiLvlLbl val="0"/>
      </c:catAx>
      <c:valAx>
        <c:axId val="79142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29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E8D-B608-40B8-A390-00042E1C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870-B0EC-42EC-A25E-27C96035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0E2-74D8-4E59-AF64-E11FF2C8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F74-03E1-428E-A191-0EB4E5CC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A1E-CEE8-4790-A4F5-0E6EBF6F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021-BB3B-4C7D-A38C-794BB8A3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E04-F81C-46A5-ACBC-EC54A1F8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8D2-9AC0-4F97-B96B-CBB2ABFD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F893-72E5-47C1-851A-2872A7DB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E10-3E85-4941-8958-D5C5FCBC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6AC-31B8-4809-9735-243EC589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42F-D812-421A-886C-B00ECCDE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BB094-70E9-4A2F-9359-65A420691C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